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0.wmf" ContentType="image/x-wmf"/>
  <Override PartName="/ppt/media/image28.png" ContentType="image/png"/>
  <Override PartName="/ppt/media/image49.wmf" ContentType="image/x-wmf"/>
  <Override PartName="/ppt/media/image11.png" ContentType="image/png"/>
  <Override PartName="/ppt/media/image10.wmf" ContentType="image/x-wmf"/>
  <Override PartName="/ppt/media/image47.wmf" ContentType="image/x-wmf"/>
  <Override PartName="/ppt/media/image25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57.wmf" ContentType="image/x-wmf"/>
  <Override PartName="/ppt/media/image51.wmf" ContentType="image/x-wmf"/>
  <Override PartName="/ppt/media/image29.png" ContentType="image/png"/>
  <Override PartName="/ppt/media/image2.wmf" ContentType="image/x-wmf"/>
  <Override PartName="/ppt/media/image31.png" ContentType="image/png"/>
  <Override PartName="/ppt/media/image62.wmf" ContentType="image/x-wmf"/>
  <Override PartName="/ppt/media/image22.png" ContentType="image/png"/>
  <Override PartName="/ppt/media/image4.wmf" ContentType="image/x-wmf"/>
  <Override PartName="/ppt/media/image59.png" ContentType="image/png"/>
  <Override PartName="/ppt/media/image16.png" ContentType="image/png"/>
  <Override PartName="/ppt/media/image56.wmf" ContentType="image/x-wmf"/>
  <Override PartName="/ppt/media/image27.png" ContentType="image/png"/>
  <Override PartName="/ppt/media/image15.png" ContentType="image/png"/>
  <Override PartName="/ppt/media/image55.wmf" ContentType="image/x-wmf"/>
  <Override PartName="/ppt/media/image26.png" ContentType="image/png"/>
  <Override PartName="/ppt/media/image3.wmf" ContentType="image/x-wmf"/>
  <Override PartName="/ppt/media/image58.png" ContentType="image/png"/>
  <Override PartName="/ppt/media/image21.png" ContentType="image/png"/>
  <Override PartName="/ppt/media/image23.png" ContentType="image/png"/>
  <Override PartName="/ppt/media/image36.png" ContentType="image/png"/>
  <Override PartName="/ppt/media/image20.png" ContentType="image/png"/>
  <Override PartName="/ppt/media/image24.png" ContentType="image/png"/>
  <Override PartName="/ppt/media/image37.png" ContentType="image/png"/>
  <Override PartName="/ppt/media/image6.png" ContentType="image/png"/>
  <Override PartName="/ppt/media/image40.wmf" ContentType="image/x-wmf"/>
  <Override PartName="/ppt/media/image18.png" ContentType="image/png"/>
  <Override PartName="/ppt/media/image12.png" ContentType="image/png"/>
  <Override PartName="/ppt/media/image52.wmf" ContentType="image/x-wmf"/>
  <Override PartName="/ppt/media/image8.png" ContentType="image/png"/>
  <Override PartName="/ppt/media/image60.wmf" ContentType="image/x-wmf"/>
  <Override PartName="/ppt/media/image38.png" ContentType="image/png"/>
  <Override PartName="/ppt/media/image7.png" ContentType="image/png"/>
  <Override PartName="/ppt/media/image41.wmf" ContentType="image/x-wmf"/>
  <Override PartName="/ppt/media/image19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14.png" ContentType="image/png"/>
  <Override PartName="/ppt/media/image54.wmf" ContentType="image/x-wmf"/>
  <Override PartName="/ppt/media/image9.wmf" ContentType="image/x-wmf"/>
  <Override PartName="/ppt/media/image30.png" ContentType="image/png"/>
  <Override PartName="/ppt/media/image32.png" ContentType="image/png"/>
  <Override PartName="/ppt/media/image33.png" ContentType="image/png"/>
  <Override PartName="/ppt/media/image34.png" ContentType="image/png"/>
  <Override PartName="/ppt/media/image61.wmf" ContentType="image/x-wmf"/>
  <Override PartName="/ppt/media/image39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08080" y="69480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3396-5158-4C5E-9FF2-253C40AC6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365DCC-F9EE-4596-B30D-C9D535F40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57FDD8-A4D1-4579-8492-64EBA03B3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69F323-333A-4D05-BFFA-FEEA0AD09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A070-4FD9-4464-B2E2-BB5F6B3AF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89D28B-9501-49D5-8338-E964051DD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B5BEC9-CF73-4075-AAAF-646974373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587193-7EFC-45D8-8DE3-47E77A47B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6260C7-ADB2-4086-990F-D2C4EF030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CE9698-9B10-4D57-A891-F1C1289A4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B3C54A-9221-4DFF-86FA-7D502BF69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A2B942-E953-42D6-B73B-715EEB817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EE4799-4CB6-4376-98DE-9B5E55499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C78597-CF79-4E98-8299-6CB93CB67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198519-22F7-48EB-AC7E-8E075E03C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BC35D4-F9F4-4D22-B486-E8AE5C56C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A57691-4548-4D51-918B-285AA4C05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5EBB74-9F69-434D-ACB9-44688C61A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7ACB37-1910-448E-BEB9-06BE339B2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76725F-34B7-4BAD-A7AD-AB1D4BA32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025FA2-FA4F-43E7-9F6B-179B8CFFD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3903AC-79DD-4DF8-BB95-920872C46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507DFD-58E8-4EF5-9537-63A3FB41F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B165-0E6D-4567-8A5F-5D7452D77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2FEA13-6453-4DF7-8DB6-DC898E941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54D8FE-9C5C-4D19-B9C2-9DAF109EC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3E4281-43DD-43AC-ACB5-6B9846E3D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C6908D-1C64-4132-8D25-E597D3CDC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3FEDBA-FE3E-435E-A6C5-8EF75F788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7732EB-95F1-47BD-A643-C6AFCBA5D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90C229-0278-45AC-B8A9-130D67CA7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360576-344F-447F-ACC3-1D96DD750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2592CC-4EA2-441A-876F-6316C0FF8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AB6B-0A3F-4E95-9CC1-CE3FEC90B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3B4A93-748A-4BF8-9C90-B3CAA5477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0094-0C84-4FE2-AF29-BF61BC9B0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2F7E-0B16-4562-9A11-9DFAE2BAE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5A6637-0D0B-46E1-B465-99584BF06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CC8A66-90B7-485C-B17E-71C9EF369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2C7A-BFDE-43F4-AD01-EB640ADC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972E-41A0-4E4B-907E-C3573B0E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877-1A4B-4BDA-86E4-1C8FBFB2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25A-5C6E-4EBE-831C-6C121AD4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3DF2A-1161-48B8-A5DE-FB8893CBE6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004BD-ADB7-459F-9ADF-4AAF7CDB80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88AC8-4971-415F-8833-F79D8A9A32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33B4B-A05B-4D32-AC06-1A72037791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4EC32-4D03-46A3-B574-A6383650B8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81747-FF8C-40CA-85AE-77AA7C46A0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76653-40E6-443B-9BB7-914F96F94A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C0A7-2729-46DA-9DED-F330E806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01E03-3F91-4B40-8F24-41885998BB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D08B7-F6A4-4F2B-94B7-7A5D2440E6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8CF1D-D5F2-4336-9421-B59D706320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A040F-4990-47F9-935F-7FC6D5EDD2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158EA-CD16-4CAE-A8FC-E2394EE5D2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CFC4-C33C-4190-B5CC-C4012E86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BF83-A4C3-4AE2-9255-FAA1C164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5C0-9323-498A-B496-4E8610E1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23F-6AA4-4703-9740-00540919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4852-B6CF-4607-91DC-8634A416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3AFF-296C-4F13-9DF2-5395BA54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3460-8A67-4222-A79E-69D0602A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0374-8B7B-4759-861E-D047E2D9CBD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E6EA-EA89-464D-B909-58416BDF428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7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Forward Kinema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4EF3-A869-4C97-A6FE-B89D488AC24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ur parameter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nk length, 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nk twist ,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nk offset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joint ang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trix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function of only a single variabl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t turns out that three of the above four quantities are constant for a given link, while the fourth parameter is the joint vari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0FCE-1871-412E-B84E-BFD52AEFF69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the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joint, a joint variable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ociated w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joints are represented by the z-ax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joint is revolute, the z-axis is in the direction of rotation as followed by the right hand ru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joint is prismatic, the z-axis for the joint is along the direction of the liner mov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8BB9-3417-4660-A814-AAE0771E839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498492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Combine all transformations, from the first joint (base) to the next until we get to the last joint, to get the robot’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otal transformation matri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From     , the position and orientation of the tool frame are calcul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22B5-9942-4BDA-A6F2-47788D794CB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8"/>
          <p:cNvGraphicFramePr/>
          <p:nvPr/>
        </p:nvGraphicFramePr>
        <p:xfrm>
          <a:off x="1676520" y="3657600"/>
          <a:ext cx="307656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657600"/>
                    <a:ext cx="30765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1676520" y="4518000"/>
          <a:ext cx="38088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518000"/>
                    <a:ext cx="3808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962C-AFD5-4818-9787-4E5513EFC53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C:\Documents and Settings\Administrator\Desktop\untitled.bmp"/>
          <p:cNvPicPr/>
          <p:nvPr/>
        </p:nvPicPr>
        <p:blipFill>
          <a:blip r:embed="rId1"/>
          <a:stretch/>
        </p:blipFill>
        <p:spPr>
          <a:xfrm>
            <a:off x="457200" y="1514520"/>
            <a:ext cx="8448840" cy="5343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AF23-6205-43F2-AF96-E576D6BDADE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871056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F952-EF1A-491A-BD31-9DFBC5EB23D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C:\Documents and Settings\Administrator\Desktop\untitled.bmp"/>
          <p:cNvPicPr/>
          <p:nvPr/>
        </p:nvPicPr>
        <p:blipFill>
          <a:blip r:embed="rId2"/>
          <a:stretch/>
        </p:blipFill>
        <p:spPr>
          <a:xfrm>
            <a:off x="304920" y="1523880"/>
            <a:ext cx="86295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6A8E-E93D-4566-8746-805CD925831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08668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9"/>
          <p:cNvGraphicFramePr/>
          <p:nvPr/>
        </p:nvGraphicFramePr>
        <p:xfrm>
          <a:off x="2133720" y="2895480"/>
          <a:ext cx="4144680" cy="16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895480"/>
                    <a:ext cx="4144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380880" y="4952880"/>
            <a:ext cx="8134560" cy="685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5"/>
          <a:stretch/>
        </p:blipFill>
        <p:spPr>
          <a:xfrm>
            <a:off x="457200" y="1295280"/>
            <a:ext cx="830592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wo links a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100E-BDDA-4627-BA8B-2D835DCCEE5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9"/>
          <p:cNvSpPr/>
          <p:nvPr/>
        </p:nvSpPr>
        <p:spPr>
          <a:xfrm>
            <a:off x="838080" y="1925640"/>
            <a:ext cx="4419720" cy="10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frame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Z ‘s are normal to th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9" descr=""/>
          <p:cNvPicPr/>
          <p:nvPr/>
        </p:nvPicPr>
        <p:blipFill>
          <a:blip r:embed="rId1"/>
          <a:stretch/>
        </p:blipFill>
        <p:spPr>
          <a:xfrm>
            <a:off x="4645080" y="1447920"/>
            <a:ext cx="4498920" cy="3733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0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30672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wo links a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FD49-DE51-42FE-8F18-6366F8A2BD2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4219560" cy="2657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5829120" cy="1809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3"/>
          <a:stretch/>
        </p:blipFill>
        <p:spPr>
          <a:xfrm>
            <a:off x="6400800" y="2666880"/>
            <a:ext cx="1314360" cy="352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4"/>
          <a:stretch/>
        </p:blipFill>
        <p:spPr>
          <a:xfrm>
            <a:off x="7620120" y="2666880"/>
            <a:ext cx="666720" cy="304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5105520" y="2286000"/>
            <a:ext cx="3962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 (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denoted by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2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C194-DB8C-47D8-BF5C-5C782D606B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6381720" cy="4424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0" y="4038480"/>
            <a:ext cx="3886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ema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rward (direct)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: The values of the joint varia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d: The position and the orientation of the end eff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verse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: The position and the orientation of the end eff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: The values of the joint vari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BD2B-B3F9-4477-BA24-5C032078A4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ED2E-2801-405D-B945-29E1D2CAE6A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0" y="1752480"/>
            <a:ext cx="3143160" cy="3962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3200400" y="3276720"/>
            <a:ext cx="57150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CF6E-28D0-4C5F-9C4B-64E0F26EE51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14860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069B-AE00-4D07-A71A-3B1D128205A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3971880" cy="4905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43872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37AF-61E3-4999-88C9-71E7AACDD14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337176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EF37-2648-4238-8568-9937CD70BA4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100240" y="2728800"/>
            <a:ext cx="49435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C7A4-C278-43A6-A177-B889FC5C707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371600" y="2263680"/>
            <a:ext cx="556272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A412-75E6-411D-B002-CFDDC803BBB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809880" y="1828800"/>
            <a:ext cx="4105440" cy="3284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360972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34480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E7AD-9F76-4D45-B8FB-6EF51C1E47F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2581200" y="1849320"/>
            <a:ext cx="39816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C603-8DD7-4615-AED8-EF101BB34A9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848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6CB9-2B26-42E3-98FB-F2608B5B634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1060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DH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homogeneous transformation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lating the tool frame to the fixed base fr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DC94-C9C3-444D-B898-269F8952DF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36766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D2E8-A73C-4EA9-9219-131AFC44351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3502080" cy="83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Object 5"/>
          <p:cNvGraphicFramePr/>
          <p:nvPr/>
        </p:nvGraphicFramePr>
        <p:xfrm>
          <a:off x="819000" y="3886200"/>
          <a:ext cx="62892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9000" y="3886200"/>
                    <a:ext cx="6289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5524560" y="3962520"/>
          <a:ext cx="495360" cy="60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24560" y="3962520"/>
                    <a:ext cx="495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by example 2, and        given by example  3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3E12-2BC0-4E66-AA39-2F6294D500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458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9E8C-CE53-4CDC-BFA5-BEF4AA386A0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2063880" y="1676520"/>
            <a:ext cx="4432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DA78-4822-4B65-B799-9E6D026BA25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ward kinematic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The position of the end-effector: 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The orientation {Roll, Pitch, Yaw 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3" name="Object 8"/>
          <p:cNvGraphicFramePr/>
          <p:nvPr/>
        </p:nvGraphicFramePr>
        <p:xfrm>
          <a:off x="1332000" y="3886200"/>
          <a:ext cx="537372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886200"/>
                    <a:ext cx="53737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ll Pitch Y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2720880" y="37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9"/>
          <p:cNvGrpSpPr/>
          <p:nvPr/>
        </p:nvGrpSpPr>
        <p:grpSpPr>
          <a:xfrm>
            <a:off x="4801320" y="2048040"/>
            <a:ext cx="4035600" cy="3517200"/>
            <a:chOff x="4801320" y="2048040"/>
            <a:chExt cx="4035600" cy="3517200"/>
          </a:xfrm>
        </p:grpSpPr>
        <p:grpSp>
          <p:nvGrpSpPr>
            <p:cNvPr id="239" name="Group 4"/>
            <p:cNvGrpSpPr/>
            <p:nvPr/>
          </p:nvGrpSpPr>
          <p:grpSpPr>
            <a:xfrm>
              <a:off x="5332320" y="2527200"/>
              <a:ext cx="3200400" cy="2743200"/>
              <a:chOff x="5332320" y="2527200"/>
              <a:chExt cx="3200400" cy="2743200"/>
            </a:xfrm>
          </p:grpSpPr>
          <p:sp>
            <p:nvSpPr>
              <p:cNvPr id="240" name="Line 5"/>
              <p:cNvSpPr/>
              <p:nvPr/>
            </p:nvSpPr>
            <p:spPr>
              <a:xfrm flipV="1">
                <a:off x="6703920" y="2527200"/>
                <a:ext cx="0" cy="18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6"/>
              <p:cNvSpPr/>
              <p:nvPr/>
            </p:nvSpPr>
            <p:spPr>
              <a:xfrm flipH="1">
                <a:off x="5332320" y="4356000"/>
                <a:ext cx="137160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7"/>
              <p:cNvSpPr/>
              <p:nvPr/>
            </p:nvSpPr>
            <p:spPr>
              <a:xfrm>
                <a:off x="6703920" y="4356000"/>
                <a:ext cx="18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8"/>
              <p:cNvSpPr/>
              <p:nvPr/>
            </p:nvSpPr>
            <p:spPr>
              <a:xfrm>
                <a:off x="6399000" y="306072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9"/>
              <p:cNvSpPr/>
              <p:nvPr/>
            </p:nvSpPr>
            <p:spPr>
              <a:xfrm rot="16336800">
                <a:off x="5724360" y="4661640"/>
                <a:ext cx="685800" cy="381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0"/>
              <p:cNvSpPr/>
              <p:nvPr/>
            </p:nvSpPr>
            <p:spPr>
              <a:xfrm rot="5753400">
                <a:off x="7395840" y="418140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Text Box 11"/>
            <p:cNvSpPr/>
            <p:nvPr/>
          </p:nvSpPr>
          <p:spPr>
            <a:xfrm>
              <a:off x="4801320" y="5105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2"/>
            <p:cNvSpPr/>
            <p:nvPr/>
          </p:nvSpPr>
          <p:spPr>
            <a:xfrm>
              <a:off x="8436600" y="4114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3"/>
            <p:cNvSpPr/>
            <p:nvPr/>
          </p:nvSpPr>
          <p:spPr>
            <a:xfrm>
              <a:off x="6442200" y="2048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9" name="Object 1024"/>
            <p:cNvGraphicFramePr/>
            <p:nvPr/>
          </p:nvGraphicFramePr>
          <p:xfrm>
            <a:off x="5402160" y="4324680"/>
            <a:ext cx="380880" cy="41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0" name="Object 102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02160" y="4324680"/>
                      <a:ext cx="38088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51" name="Object 1025"/>
                <p:cNvSpPr txBox="1"/>
                <p:nvPr/>
              </p:nvSpPr>
              <p:spPr>
                <a:xfrm>
                  <a:off x="7916760" y="4542120"/>
                  <a:ext cx="331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2" name="Object 1026"/>
                <p:cNvSpPr txBox="1"/>
                <p:nvPr/>
              </p:nvSpPr>
              <p:spPr>
                <a:xfrm>
                  <a:off x="6870600" y="2557440"/>
                  <a:ext cx="41400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53" name="Object 15"/>
          <p:cNvGraphicFramePr/>
          <p:nvPr/>
        </p:nvGraphicFramePr>
        <p:xfrm>
          <a:off x="457200" y="2514600"/>
          <a:ext cx="5257800" cy="14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514600"/>
                    <a:ext cx="525780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C13E1B-BF65-49B0-AB74-BE39CBBD69C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16"/>
          <p:cNvGraphicFramePr/>
          <p:nvPr/>
        </p:nvGraphicFramePr>
        <p:xfrm>
          <a:off x="228600" y="4105440"/>
          <a:ext cx="4495680" cy="233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105440"/>
                    <a:ext cx="44956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96F7-4B70-4079-9D18-A641D6AB521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calculat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the matrix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 wi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f the matri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1" name="Object 2"/>
          <p:cNvGraphicFramePr/>
          <p:nvPr/>
        </p:nvGraphicFramePr>
        <p:xfrm>
          <a:off x="4238640" y="1600200"/>
          <a:ext cx="1933560" cy="5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8640" y="1600200"/>
                    <a:ext cx="19335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3"/>
          <p:cNvGraphicFramePr/>
          <p:nvPr/>
        </p:nvGraphicFramePr>
        <p:xfrm>
          <a:off x="3048120" y="3429000"/>
          <a:ext cx="4762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429000"/>
                    <a:ext cx="4762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6"/>
          <p:cNvGraphicFramePr/>
          <p:nvPr/>
        </p:nvGraphicFramePr>
        <p:xfrm>
          <a:off x="533520" y="4343400"/>
          <a:ext cx="586728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343400"/>
                    <a:ext cx="5867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5"/>
          <p:cNvGraphicFramePr/>
          <p:nvPr/>
        </p:nvGraphicFramePr>
        <p:xfrm>
          <a:off x="851040" y="5664240"/>
          <a:ext cx="13586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1040" y="5664240"/>
                    <a:ext cx="1358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6"/>
          <p:cNvGraphicFramePr/>
          <p:nvPr/>
        </p:nvGraphicFramePr>
        <p:xfrm>
          <a:off x="2514600" y="5638680"/>
          <a:ext cx="140796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5638680"/>
                    <a:ext cx="14079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7"/>
          <p:cNvGraphicFramePr/>
          <p:nvPr/>
        </p:nvGraphicFramePr>
        <p:xfrm>
          <a:off x="4184640" y="5638680"/>
          <a:ext cx="1454040" cy="476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84640" y="5638680"/>
                    <a:ext cx="14540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12"/>
          <p:cNvGraphicFramePr/>
          <p:nvPr/>
        </p:nvGraphicFramePr>
        <p:xfrm>
          <a:off x="1130400" y="6242040"/>
          <a:ext cx="1195200" cy="31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4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30400" y="6242040"/>
                    <a:ext cx="11952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3"/>
          <p:cNvGraphicFramePr/>
          <p:nvPr/>
        </p:nvGraphicFramePr>
        <p:xfrm>
          <a:off x="2590920" y="6095880"/>
          <a:ext cx="1295280" cy="542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6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90920" y="6095880"/>
                    <a:ext cx="12952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4"/>
          <p:cNvGraphicFramePr/>
          <p:nvPr/>
        </p:nvGraphicFramePr>
        <p:xfrm>
          <a:off x="4114800" y="6019920"/>
          <a:ext cx="1549440" cy="676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8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14800" y="6019920"/>
                    <a:ext cx="154944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15"/>
          <p:cNvGraphicFramePr/>
          <p:nvPr/>
        </p:nvGraphicFramePr>
        <p:xfrm>
          <a:off x="5962680" y="2577960"/>
          <a:ext cx="1428840" cy="1155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0" name="Object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962680" y="2577960"/>
                    <a:ext cx="142884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ule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RR:RR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8857-819D-467B-AFB0-96AF031DB0A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457200" y="2209680"/>
            <a:ext cx="8305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447920" y="2286000"/>
          <a:ext cx="4952880" cy="2819520"/>
        </p:xfrm>
        <a:graphic>
          <a:graphicData uri="http://schemas.openxmlformats.org/drawingml/2006/table">
            <a:tbl>
              <a:tblPr/>
              <a:tblGrid>
                <a:gridCol w="1031760"/>
                <a:gridCol w="939960"/>
                <a:gridCol w="1131840"/>
                <a:gridCol w="812520"/>
                <a:gridCol w="1036800"/>
              </a:tblGrid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Spong book: page 1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2, 3.3, 3.4, 3.6 , 3.7, 3.8, 3.9, 3.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Class on next Tues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9AE7-F234-47D0-99C7-EB0D7400B11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u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CF84-5C8A-41DC-B548-6E226A743D0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6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009880" cy="1380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7" descr=""/>
          <p:cNvPicPr/>
          <p:nvPr/>
        </p:nvPicPr>
        <p:blipFill>
          <a:blip r:embed="rId2"/>
          <a:stretch/>
        </p:blipFill>
        <p:spPr>
          <a:xfrm>
            <a:off x="457200" y="1062000"/>
            <a:ext cx="7467480" cy="25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Object 16"/>
          <p:cNvGraphicFramePr/>
          <p:nvPr/>
        </p:nvGraphicFramePr>
        <p:xfrm>
          <a:off x="1855800" y="4038480"/>
          <a:ext cx="2943360" cy="4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5800" y="4038480"/>
                    <a:ext cx="29433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Rectangle 3"/>
          <p:cNvSpPr/>
          <p:nvPr/>
        </p:nvSpPr>
        <p:spPr>
          <a:xfrm>
            <a:off x="457200" y="4038480"/>
            <a:ext cx="8305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re                                     are  Roll, Pitch, and Y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Representi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orward kinema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kinema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9" name="Object 4"/>
          <p:cNvGraphicFramePr/>
          <p:nvPr/>
        </p:nvGraphicFramePr>
        <p:xfrm>
          <a:off x="927000" y="2347920"/>
          <a:ext cx="1987560" cy="33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347920"/>
                    <a:ext cx="1987560" cy="33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5"/>
          <p:cNvGraphicFramePr/>
          <p:nvPr/>
        </p:nvGraphicFramePr>
        <p:xfrm>
          <a:off x="4927680" y="2903400"/>
          <a:ext cx="3097080" cy="193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7680" y="2903400"/>
                    <a:ext cx="30970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Slide Number Placeholder 5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B249-0A59-4BC3-8001-82320B1013E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800960" y="160020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io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DH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ery simple way of modeling robot links and joints that can be used for any kind of robot configu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echnique has became the standard way of representing robots and modeling their mo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8C54-533B-4199-BC52-0508E6404B1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s: we hav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+1 links. Link 0 is the 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oints are numbered from 1 to 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i connects link i − 1 to link 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 {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ttached to joi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+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fra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{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ich is attached to the robot base (inertial frame) “joint 1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FD2F-CA82-4FA9-8A38-15BBBB9909E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 a reference frame to each joi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-axis and z-axis). The D-H representation does not use the y-axis at 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homogeneous transformatio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represented as a product of four basic transform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13BC-B65C-450A-84C2-0F07DAC159A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97E6-9B64-4693-918A-A48B2629021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rix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presenting the four movements is found by: four mov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Object 7"/>
          <p:cNvGraphicFramePr/>
          <p:nvPr/>
        </p:nvGraphicFramePr>
        <p:xfrm>
          <a:off x="1066680" y="3962520"/>
          <a:ext cx="548640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962520"/>
                    <a:ext cx="54864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9"/>
          <p:cNvGraphicFramePr/>
          <p:nvPr/>
        </p:nvGraphicFramePr>
        <p:xfrm>
          <a:off x="349200" y="2438280"/>
          <a:ext cx="503244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0" y="2438280"/>
                    <a:ext cx="503244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00A3-F853-4592-AE70-FE83184BC4D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8"/>
          <p:cNvGraphicFramePr/>
          <p:nvPr/>
        </p:nvGraphicFramePr>
        <p:xfrm>
          <a:off x="1447920" y="4800600"/>
          <a:ext cx="41446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800600"/>
                    <a:ext cx="4144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685800" y="1447920"/>
                <a:ext cx="393048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4648320" y="1447920"/>
                <a:ext cx="406080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523880" y="1829880"/>
            <a:ext cx="6096240" cy="4064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762120" y="3048120"/>
                <a:ext cx="70484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nk and joint parameter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ink lengt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: the offset distance between the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-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nd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es along the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ink offset 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the distance from the origin of frame i−1 to the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i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ong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-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9808-C3FE-4A17-91C5-A796079E41E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F73C-48A3-4131-893C-2E8116CC86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80880" y="1414440"/>
            <a:ext cx="3581640" cy="292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4191120" y="1600200"/>
            <a:ext cx="2334960" cy="26668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533520" y="4179960"/>
            <a:ext cx="815328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nk tw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:the angle from the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xis to the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xis about the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xi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sitive sense for α is determined from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right-hand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oint angle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angle between the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xes about the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-1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23:28:20Z</dcterms:created>
  <dc:creator>A</dc:creator>
  <dc:description/>
  <dc:language>en-US</dc:language>
  <cp:lastModifiedBy>Ayssam</cp:lastModifiedBy>
  <dcterms:modified xsi:type="dcterms:W3CDTF">2009-09-15T01:45:51Z</dcterms:modified>
  <cp:revision>174</cp:revision>
  <dc:subject/>
  <dc:title>Robot Kinematics II </dc:title>
</cp:coreProperties>
</file>